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9B44-8854-43BA-8EE4-574BE222A5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E297-5950-40D0-B366-7EE25A2655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6FB0-8F60-43F1-A90E-02B2F60D05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08F-2073-488E-BCE0-28F7D98D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FA9-17F0-4073-BF2F-D7408A37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562-7B7F-4344-BD56-D20B1886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F73-6950-4023-96AA-5E808462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CA6-4E74-4E93-B1BE-1332A6BA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DD5-425A-4E0D-901F-A896B3B1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AB5-8993-4601-A1B9-3FF69C7F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B55-7DD6-45DB-9A77-2C403162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5F6-D0C9-4450-B4CD-6AF065FB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2A2-E80E-4CE9-8776-DF94526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03B-D387-4111-9D75-E01F9E12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214-E6EB-448D-8BA5-FF7827F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0A28-83DA-4DC9-804D-BD0D363428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785880" y="498600"/>
            <a:ext cx="82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3333cc"/>
                </a:solidFill>
                <a:latin typeface="Comic Sans MS"/>
              </a:rPr>
              <a:t>Музыкальные упражнения для развития дикции и артикуля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409400" y="1905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C:\Documents and Settings\xxx\Мои документы\Мои рисунки\сайт\pozitiv095.jpg"/>
          <p:cNvPicPr/>
          <p:nvPr/>
        </p:nvPicPr>
        <p:blipFill>
          <a:blip r:embed="rId2"/>
          <a:stretch/>
        </p:blipFill>
        <p:spPr>
          <a:xfrm>
            <a:off x="714240" y="3581280"/>
            <a:ext cx="7929720" cy="2857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47084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584960" y="3627360"/>
            <a:ext cx="2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257800" y="53751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143000" y="285840"/>
            <a:ext cx="73580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00040" y="3808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Артикуляционные упраж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465000" y="210348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541320" y="263700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489480" y="3322800"/>
            <a:ext cx="36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3565440" y="3400560"/>
            <a:ext cx="38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214200" y="928800"/>
            <a:ext cx="857268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Упражнения для нижней челю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. Указательным пальцем оттягиваем нижнюю челюсть, короткий вдох через рот, медленно закрываем 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. Опускаем нижнюю челюсть, ладошки кладём на щёки, быстро поднимаем нёбную занавеску, медленно закрываем рот   (если упражнение выполняется правильно, происходит естественный зевок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. Упражнение называется «Лягушка ловит комара». Широко раскрываем рот и громко произносим «ам». При этом помогаем себе руками и корпусом, делая шаг вперё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. «Бегемот». Закрыть глаза, широко раскрыв рот. Пытаемся как можно ниже опустить нижнюю челюсть. Зафиксировали. Держим несколько секунд. Расслабление.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.Нижнюю челюсть «тянем» вперёд. Зафиксировали. Расслабление. Повтор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500040" y="214200"/>
            <a:ext cx="8286840" cy="65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Упражнения для мышц гу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. «Пятачок»- губы вытянуть-расслаб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. «Пятачок» тянем вправо. Расслабить. Тянем влево. Расслабить. Тянем вверх. Расслабить. Тянем вни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. «Улыбка Арлекино»- растягиваем губы в улыбке «до ушей» так, чтобы не было видно зу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. «Улыбка мисс-Вселенной» - растягиваем губы в улыбке «до ушей» так, чтобы были видны все зу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.«Поцелуй» - изображаем поцелуй со звуком, помогаем себе руками (активное движение рук вперёд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. Губы «карасиком» (изобразите рыбку с открытым рто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.Показать верхние и следом нижние зубы. Напрягать губы. Расслаб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.Поочерёдно произносим звуки «П-Б». На «Б» более плотно сжимаем гу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. Показать «лошадку». «Пррррр!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875960" y="498600"/>
            <a:ext cx="3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09400" y="1905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7084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584960" y="3627360"/>
            <a:ext cx="2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5214960" y="54291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214200" y="214200"/>
            <a:ext cx="8643960" cy="64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Упражнения для я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1. «Острый» язык прикасается к зубам, альвеолам, нёбу, тянется к мягкому язычку, затем «ложится» на нижнюю губ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2. Зубы разжаты, губы сомкнуты, язык «лежит» под верхней губой. Начинаем «чистку зубов» по часовой стрелке. Повторяем против часовой стрел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3. «Часы». «Острым» языком показываем время: 12 часов дня, 15, 18, 21, 24, 6 утра, 12 дня. Всё повторяем в обратную сторо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4. «Змея» - очень быстро, как можно дальше высунуть язы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5. Тянем язык к носу (про себя считаем до 10-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6. Тянем язык к правому уху(про себя считаем до 10-ти). Расслабили. Затем тянем к левому уху. Расслаби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7.«Провентилировать» рот языком. Как маятник – из стороны в сторо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8. Облизываем верхнее нёбо от корня языка до зубов. Кстати, это то упражнение, которое можно выполнять вместо распевки, когда вы находитесь в недоступном для распевания мес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9.«Проколоть» щёки языком. Поочерёдно упираться языком в щё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10. Облизываем палец, приставленный к щеке по часовой и против часовой стрелки. Палец остаётся на месте. Водить только языком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Comic Sans MS"/>
              </a:rPr>
              <a:t>Упражнения для ди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Documents and Settings\xxx\Рабочий стол\i_18.jpg"/>
          <p:cNvPicPr/>
          <p:nvPr/>
        </p:nvPicPr>
        <p:blipFill>
          <a:blip r:embed="rId2"/>
          <a:stretch/>
        </p:blipFill>
        <p:spPr>
          <a:xfrm>
            <a:off x="457200" y="1071720"/>
            <a:ext cx="1685880" cy="1881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2117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428920" y="164628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Бык - тупогуб, тупогубенький быч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У быка бела губа была туп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C:\Documents and Settings\xxx\Рабочий стол\i - 19.jpg"/>
          <p:cNvPicPr/>
          <p:nvPr/>
        </p:nvPicPr>
        <p:blipFill>
          <a:blip r:embed="rId3"/>
          <a:stretch/>
        </p:blipFill>
        <p:spPr>
          <a:xfrm>
            <a:off x="6286680" y="2714760"/>
            <a:ext cx="2485800" cy="1685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404640" y="3246480"/>
            <a:ext cx="537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На траве трава, на дворе тра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Не руби дрова, на дворе тра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2" descr="C:\Documents and Settings\xxx\Рабочий стол\i. - 20jpg.jpg"/>
          <p:cNvPicPr/>
          <p:nvPr/>
        </p:nvPicPr>
        <p:blipFill>
          <a:blip r:embed="rId4"/>
          <a:stretch/>
        </p:blipFill>
        <p:spPr>
          <a:xfrm>
            <a:off x="571680" y="4429080"/>
            <a:ext cx="2500200" cy="1738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2928960" y="492300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От топота копы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Пыль по полю лет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xxx\Рабочий стол\i - 20.jpg"/>
          <p:cNvPicPr/>
          <p:nvPr/>
        </p:nvPicPr>
        <p:blipFill>
          <a:blip r:embed="rId2"/>
          <a:stretch/>
        </p:blipFill>
        <p:spPr>
          <a:xfrm>
            <a:off x="380880" y="457200"/>
            <a:ext cx="2333880" cy="20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xxx\Рабочий стол\i. - 22jpg.jpg"/>
          <p:cNvPicPr/>
          <p:nvPr/>
        </p:nvPicPr>
        <p:blipFill>
          <a:blip r:embed="rId3"/>
          <a:stretch/>
        </p:blipFill>
        <p:spPr>
          <a:xfrm>
            <a:off x="6429240" y="1714680"/>
            <a:ext cx="2283120" cy="242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Documents and Settings\xxx\Рабочий стол\i - 22.jpg"/>
          <p:cNvPicPr/>
          <p:nvPr/>
        </p:nvPicPr>
        <p:blipFill>
          <a:blip r:embed="rId4"/>
          <a:stretch/>
        </p:blipFill>
        <p:spPr>
          <a:xfrm>
            <a:off x="685800" y="4286160"/>
            <a:ext cx="2100240" cy="2225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145320" y="426960"/>
            <a:ext cx="35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Водовоз вез 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Из - под водопров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194640" y="4923000"/>
            <a:ext cx="40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Мама мыла Милу мыл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Мила мыло не люби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921320" y="2712960"/>
            <a:ext cx="319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Шла Саша по шос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И сосала суш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mic Sans MS"/>
              </a:rPr>
              <a:t>Развиваем сценическое мастер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57120" y="129528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Повторяем скороговорку в различных образах и с эмоциями, присущими персонажу, изображенному на картин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C:\Documents and Settings\xxx\Рабочий стол\i - 24.jpg"/>
          <p:cNvPicPr/>
          <p:nvPr/>
        </p:nvPicPr>
        <p:blipFill>
          <a:blip r:embed="rId2"/>
          <a:stretch/>
        </p:blipFill>
        <p:spPr>
          <a:xfrm>
            <a:off x="533520" y="3657600"/>
            <a:ext cx="1244520" cy="141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Documents and Settings\xxx\Рабочий стол\i - 25.jpg"/>
          <p:cNvPicPr/>
          <p:nvPr/>
        </p:nvPicPr>
        <p:blipFill>
          <a:blip r:embed="rId3"/>
          <a:stretch/>
        </p:blipFill>
        <p:spPr>
          <a:xfrm>
            <a:off x="3643200" y="2714760"/>
            <a:ext cx="1490760" cy="150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C:\Documents and Settings\xxx\Рабочий стол\i - 26.jpg"/>
          <p:cNvPicPr/>
          <p:nvPr/>
        </p:nvPicPr>
        <p:blipFill>
          <a:blip r:embed="rId4"/>
          <a:stretch/>
        </p:blipFill>
        <p:spPr>
          <a:xfrm>
            <a:off x="6715080" y="3643200"/>
            <a:ext cx="2067120" cy="1428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160200" y="499428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веселый зая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329640" y="41562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грустный щен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6842160" y="521496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довольный к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424240" y="45165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2496600" y="5027760"/>
            <a:ext cx="3681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Кукушка кукушонк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купила капюш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Как в капюш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он смеш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Documents and Settings\xxx\Рабочий стол\i. - 4jpg.jpg"/>
          <p:cNvPicPr/>
          <p:nvPr/>
        </p:nvPicPr>
        <p:blipFill>
          <a:blip r:embed="rId2"/>
          <a:stretch/>
        </p:blipFill>
        <p:spPr>
          <a:xfrm>
            <a:off x="2071800" y="2057400"/>
            <a:ext cx="514332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928800" y="7858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Молодцы!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Вы замечательно выполнили все задани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500040" y="5500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Не забудьте повторить упражнения и завтра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33:57Z</dcterms:created>
  <dc:creator>xxx</dc:creator>
  <dc:description/>
  <dc:language>en-US</dc:language>
  <cp:lastModifiedBy>Тополек</cp:lastModifiedBy>
  <dcterms:modified xsi:type="dcterms:W3CDTF">2015-03-31T17:18:38Z</dcterms:modified>
  <cp:revision>27</cp:revision>
  <dc:subject/>
  <dc:title>Заголовок слайда отсутствует</dc:title>
</cp:coreProperties>
</file>